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4FA-6D69-45F5-9CBF-0D721179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ABC-4F5D-4B1B-A71A-D794569F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0BE-1A13-4337-8BD6-3B6CFA39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B7A-EC90-4D19-A63E-5346C32A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FD3-91DE-4366-AE94-CAF23477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6DB-05A3-42BE-BD20-8AFDE5A6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428-CB14-4525-AED6-2A626552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510-8309-4056-A4DB-45D3CCD5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7E7-06D8-4E15-866E-B4A2F11E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76D-5EA5-46FC-9F9E-0B3642A6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3FF-07D5-4693-8D69-84096A5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CD3-95BC-4BDE-A373-1A55299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5A25-BD16-4117-BF40-244A2A37B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Science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roo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use numbers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ventions (spelling, punctuation, sentences, paragra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38680000[1]"/>
          <p:cNvPicPr/>
          <p:nvPr/>
        </p:nvPicPr>
        <p:blipFill>
          <a:blip r:embed="rId1"/>
          <a:stretch/>
        </p:blipFill>
        <p:spPr>
          <a:xfrm>
            <a:off x="3886200" y="990720"/>
            <a:ext cx="5105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quired 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reen duo-tangs (Notebook, Journal, Lab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harpened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shar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, Tissue, Organs,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st Wee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– Half Clas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 – Quiz, Journal, &amp; Mini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Tuesday, Friday – “Regular”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nd use cla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ame the parts of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n a an activity using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9:38:08Z</dcterms:created>
  <dc:creator>nbdoe</dc:creator>
  <dc:description/>
  <dc:language>en-US</dc:language>
  <cp:lastModifiedBy>Terry, Sean J. (ASD-E)</cp:lastModifiedBy>
  <dcterms:modified xsi:type="dcterms:W3CDTF">2016-01-25T23:11:56Z</dcterms:modified>
  <cp:revision>30</cp:revision>
  <dc:subject/>
  <dc:title>Slide 1</dc:title>
</cp:coreProperties>
</file>